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840C-583A-438C-AE8C-1C29D7E21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4317-8A33-4CEC-BCA0-6E980075C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8C96-DE91-41EB-930B-52947AD84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2388-304C-4179-A200-FF194954B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A09C-1809-4B2B-A6A7-ADED8AB38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9E56-0DBC-4EC8-8A74-A2720DFF3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4832-574A-4A50-8957-B8257F0D6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8B3D-2493-41D9-A2F5-73A223A96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0102-ABDE-4811-8CE7-7BAA18CA4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F271-16B4-4178-8241-D056EC5C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F459-D364-4BCE-B521-B085CBC3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5EAC-40F9-41D5-898C-5127DA9D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5EFA0-A6EB-4338-BD02-989741542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the way a company such as Best Buy accounts for its inventory affect its net income in a given ye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229600" cy="15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rror that overstates the ending inventory will also cause net income for the period to be overst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s held on consignment should not be included in the inventory of the consign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1248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tail method of inventory is useful in estimating the cost of merchandise for monthly or quarterly financial stat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TPChart"/>
          <p:cNvGraphicFramePr/>
          <p:nvPr/>
        </p:nvGraphicFramePr>
        <p:xfrm>
          <a:off x="4508640" y="1905120"/>
          <a:ext cx="4483080" cy="488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905120"/>
                    <a:ext cx="4483080" cy="48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41776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9692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l of the following documents are used for inventory control exce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11480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chase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iving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nse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ndor’s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229600" cy="155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following is not a common inventory cost flow assumption in busines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011320"/>
            <a:ext cx="4114800" cy="234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- in, first-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dle-in, first-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-in, first-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7040"/>
            <a:ext cx="822960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pecific identification method would be used by which busines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114800" cy="234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cery s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e s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thing s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mobile dea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229600" cy="15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 which method of inventory costing is the cost of goods sold the same as the physical flow of merchandi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96920"/>
            <a:ext cx="4114800" cy="38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-in, first out (FIF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-in, first-out (LIF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 c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229600" cy="15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 which method of inventory costing are the costs included in the merchandise sold the latest costs of purchases incu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96920"/>
            <a:ext cx="4114800" cy="38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-in, first out (LIF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-in, first-out (FIF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 c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3616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periodic inventory system for costing inventory, the merchandise available for sale is distributed am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TPChart"/>
          <p:cNvGraphicFramePr/>
          <p:nvPr/>
        </p:nvGraphicFramePr>
        <p:xfrm>
          <a:off x="4648320" y="1986120"/>
          <a:ext cx="4330440" cy="48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6120"/>
                    <a:ext cx="4330440" cy="48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089080"/>
            <a:ext cx="4114800" cy="40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ning inventory and ending inven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merchandise sold and ending inven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chases and ending inven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ning inventory and cost of merchandise s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229600" cy="15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period of inflation or rising prices, which inventory flow assumption will result in inventory or illusory prof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96920"/>
            <a:ext cx="4114800" cy="38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-in, first out (LIF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-in, first-out (FIF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 c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 think that there are accounting rules that all companies must use for reporting inventor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09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chandise inventory at its net realizable value is computed by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 cost – direct costs of dispo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imated selling price + direct costs of dispo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imated selling price – direct costs of dispo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 cost + inflationary mar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ods in transit should be included in the inventory of the seller when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025360"/>
            <a:ext cx="411480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ight company accepts the goods from the seller for sh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s reach the bu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s of the sale are FOB shi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s of the sale are FOB 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63000"/>
            <a:ext cx="8229600" cy="137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pplying the gross profit method, the estimated cost of the ending inventory is calculated by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14800" cy="507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ducting estimated cost of goods sold from s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ng estimated cost of goods sold to the estimated cost of goods available for s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ducting estimated cost of goods sold from the estimated cost of goods available for s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ng estimated cost of goods sold to s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3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31" name="Rectangle 4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5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6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6-1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Text Box 7"/>
          <p:cNvSpPr/>
          <p:nvPr/>
        </p:nvSpPr>
        <p:spPr>
          <a:xfrm>
            <a:off x="89856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533520" y="533520"/>
            <a:ext cx="8305560" cy="63756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72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identical units of Item QBM are purchased during February, as shown bel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533520" y="1143000"/>
            <a:ext cx="8305560" cy="39888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255680"/>
                <a:tab algn="l" pos="3146400"/>
                <a:tab algn="r" pos="4863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tem QBM             Units        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533520" y="1523880"/>
            <a:ext cx="8305560" cy="100368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r" pos="851040"/>
                <a:tab algn="l" pos="1139760"/>
                <a:tab algn="r" pos="3435480"/>
                <a:tab algn="r" pos="4632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b.    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  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51040"/>
                <a:tab algn="l" pos="1139760"/>
                <a:tab algn="r" pos="3435480"/>
                <a:tab algn="r" pos="4632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51040"/>
                <a:tab algn="l" pos="1139760"/>
                <a:tab algn="r" pos="3435480"/>
                <a:tab algn="r" pos="4632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   5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533520" y="2514600"/>
            <a:ext cx="8305560" cy="70380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3651120"/>
                <a:tab algn="r" pos="486396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                              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$1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651120"/>
                <a:tab algn="r" pos="486396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 cost per un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$48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$144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÷ 3 un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533520" y="3200400"/>
            <a:ext cx="8305560" cy="39888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e that one unit is sold on February 27 for $7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533520" y="3581280"/>
            <a:ext cx="8305560" cy="70380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ermine the gross profit for February and ending inventory on February 28 using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a) first-in, first-out (FIFO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533520" y="4495680"/>
          <a:ext cx="8305560" cy="2133720"/>
        </p:xfrm>
        <a:graphic>
          <a:graphicData uri="http://schemas.openxmlformats.org/drawingml/2006/table">
            <a:tbl>
              <a:tblPr/>
              <a:tblGrid>
                <a:gridCol w="8305560"/>
              </a:tblGrid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oss profit, $25; Ending inventory, $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oss profit, $22; Ending inventory, $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oss profit, $19; Ending inventory, $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oss profit, $25; Ending inventory, $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TPChart"/>
          <p:cNvGraphicFramePr/>
          <p:nvPr/>
        </p:nvGraphicFramePr>
        <p:xfrm>
          <a:off x="4572000" y="1714680"/>
          <a:ext cx="457200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714680"/>
                    <a:ext cx="45720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5" name="Group 5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46" name="Rectangle 6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7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8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6-1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520" y="2209320"/>
            <a:ext cx="4496040" cy="342900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oss profit, $25; Ending inventory, $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oss profit, $22; Ending inventory, $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oss profit, $19; Ending inventory, $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oss profit, $25; Ending inventory, $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3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52" name="Rectangle 4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5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6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6-1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Text Box 7"/>
          <p:cNvSpPr/>
          <p:nvPr/>
        </p:nvSpPr>
        <p:spPr>
          <a:xfrm>
            <a:off x="89856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533520" y="533520"/>
            <a:ext cx="8305560" cy="63756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72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identical units of Item QBM are purchased during February, as shown bel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533520" y="1143000"/>
            <a:ext cx="8305560" cy="39888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255680"/>
                <a:tab algn="l" pos="3146400"/>
                <a:tab algn="r" pos="4863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tem QBM             Units        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533520" y="1523880"/>
            <a:ext cx="8305560" cy="100368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r" pos="851040"/>
                <a:tab algn="l" pos="1139760"/>
                <a:tab algn="r" pos="3435480"/>
                <a:tab algn="r" pos="4632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b.    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  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51040"/>
                <a:tab algn="l" pos="1139760"/>
                <a:tab algn="r" pos="3435480"/>
                <a:tab algn="r" pos="4632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51040"/>
                <a:tab algn="l" pos="1139760"/>
                <a:tab algn="r" pos="3435480"/>
                <a:tab algn="r" pos="4632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   5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1"/>
          <p:cNvSpPr/>
          <p:nvPr/>
        </p:nvSpPr>
        <p:spPr>
          <a:xfrm>
            <a:off x="533520" y="2514600"/>
            <a:ext cx="8305560" cy="70380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3651120"/>
                <a:tab algn="r" pos="486396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                                  3           $1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651120"/>
                <a:tab algn="r" pos="486396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 cost per un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$48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$144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÷ 3 un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533520" y="3200400"/>
            <a:ext cx="8305560" cy="39888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e that one unit is sold on February 27 for $7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3"/>
          <p:cNvSpPr/>
          <p:nvPr/>
        </p:nvSpPr>
        <p:spPr>
          <a:xfrm>
            <a:off x="533520" y="3581280"/>
            <a:ext cx="8305560" cy="70380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ermine the gross profit for February and ending inventory on February 28 using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b) last-in, first-out (LIFO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533520" y="4495680"/>
          <a:ext cx="8305560" cy="2133720"/>
        </p:xfrm>
        <a:graphic>
          <a:graphicData uri="http://schemas.openxmlformats.org/drawingml/2006/table">
            <a:tbl>
              <a:tblPr/>
              <a:tblGrid>
                <a:gridCol w="8305560"/>
              </a:tblGrid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oss profit, $25; Ending inventory, $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oss profit, $22; Ending inventory, $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oss profit, $19; Ending inventory, $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oss profit, $25; Ending inventory, $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15680"/>
            <a:ext cx="8229600" cy="73188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6" name="Group 5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67" name="Rectangle 6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7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8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6-1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520" y="2133360"/>
            <a:ext cx="4419720" cy="327636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oss profit, $25; Ending inventory, $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oss profit, $22; Ending inventory, $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oss profit, $19; Ending inventory, $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oss profit, $25; Ending inventory, $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533520" y="4495680"/>
          <a:ext cx="8305560" cy="2133720"/>
        </p:xfrm>
        <a:graphic>
          <a:graphicData uri="http://schemas.openxmlformats.org/drawingml/2006/table">
            <a:tbl>
              <a:tblPr/>
              <a:tblGrid>
                <a:gridCol w="8305560"/>
              </a:tblGrid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oss profit, $25; Ending inventory, $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oss profit, $22; Ending inventory, $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oss profit, $19; Ending inventory, $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oss profit, $25; Ending inventory, $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</a:tbl>
          </a:graphicData>
        </a:graphic>
      </p:graphicFrame>
      <p:grpSp>
        <p:nvGrpSpPr>
          <p:cNvPr id="173" name="Group 15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74" name="Rectangle 16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7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18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6-1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Text Box 19"/>
          <p:cNvSpPr/>
          <p:nvPr/>
        </p:nvSpPr>
        <p:spPr>
          <a:xfrm>
            <a:off x="89856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0"/>
          <p:cNvSpPr/>
          <p:nvPr/>
        </p:nvSpPr>
        <p:spPr>
          <a:xfrm>
            <a:off x="533520" y="533520"/>
            <a:ext cx="8305560" cy="63756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72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identical units of Item QBM are purchased during February, as shown bel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1"/>
          <p:cNvSpPr/>
          <p:nvPr/>
        </p:nvSpPr>
        <p:spPr>
          <a:xfrm>
            <a:off x="533520" y="1143000"/>
            <a:ext cx="8305560" cy="39888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255680"/>
                <a:tab algn="l" pos="3146400"/>
                <a:tab algn="r" pos="4863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tem QBM              Units        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2"/>
          <p:cNvSpPr/>
          <p:nvPr/>
        </p:nvSpPr>
        <p:spPr>
          <a:xfrm>
            <a:off x="533520" y="1523880"/>
            <a:ext cx="8305560" cy="100368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r" pos="851040"/>
                <a:tab algn="l" pos="1139760"/>
                <a:tab algn="r" pos="3435480"/>
                <a:tab algn="r" pos="4632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b.    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  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51040"/>
                <a:tab algn="l" pos="1139760"/>
                <a:tab algn="r" pos="3435480"/>
                <a:tab algn="r" pos="4632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51040"/>
                <a:tab algn="l" pos="1139760"/>
                <a:tab algn="r" pos="3435480"/>
                <a:tab algn="r" pos="4632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   5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3"/>
          <p:cNvSpPr/>
          <p:nvPr/>
        </p:nvSpPr>
        <p:spPr>
          <a:xfrm>
            <a:off x="533520" y="2514600"/>
            <a:ext cx="8305560" cy="70380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3651120"/>
                <a:tab algn="r" pos="486396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                              3          $1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651120"/>
                <a:tab algn="r" pos="486396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 cost per un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$48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$144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÷ 3 un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4"/>
          <p:cNvSpPr/>
          <p:nvPr/>
        </p:nvSpPr>
        <p:spPr>
          <a:xfrm>
            <a:off x="533520" y="3200400"/>
            <a:ext cx="8305560" cy="39888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e that one unit is sold on February 27 for $7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5"/>
          <p:cNvSpPr/>
          <p:nvPr/>
        </p:nvSpPr>
        <p:spPr>
          <a:xfrm>
            <a:off x="533520" y="3581280"/>
            <a:ext cx="8305560" cy="70380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ermine the gross profit for February and ending inventory on February 28 using th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c) average cost meth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16040"/>
            <a:ext cx="8229600" cy="80784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7" name="Group 5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88" name="Rectangle 6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7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8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6-1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80520" y="2133360"/>
            <a:ext cx="4343400" cy="327636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oss profit, $25; Ending inventory, $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oss profit, $22; Ending inventory, $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oss profit, $19; Ending inventory, $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oss profit, $25; Ending inventory, $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457200" y="692280"/>
            <a:ext cx="8229600" cy="100368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72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he basis of the following data, determine the value of the inventory at the lower of cost or market. Apply lower of cost or market to each inventory i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57200" y="3505320"/>
          <a:ext cx="8229600" cy="2133360"/>
        </p:xfrm>
        <a:graphic>
          <a:graphicData uri="http://schemas.openxmlformats.org/drawingml/2006/table">
            <a:tbl>
              <a:tblPr/>
              <a:tblGrid>
                <a:gridCol w="6365880"/>
                <a:gridCol w="216000"/>
                <a:gridCol w="164772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1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</a:tbl>
          </a:graphicData>
        </a:graphic>
      </p:graphicFrame>
      <p:grpSp>
        <p:nvGrpSpPr>
          <p:cNvPr id="195" name="Group 24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96" name="Rectangle 25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26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27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6-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Text Box 28"/>
          <p:cNvSpPr/>
          <p:nvPr/>
        </p:nvSpPr>
        <p:spPr>
          <a:xfrm>
            <a:off x="89856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9"/>
          <p:cNvSpPr/>
          <p:nvPr/>
        </p:nvSpPr>
        <p:spPr>
          <a:xfrm>
            <a:off x="457200" y="1758960"/>
            <a:ext cx="8229600" cy="82548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ntory         Unit              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m              Quantity      Cost Price    Market 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0"/>
          <p:cNvSpPr/>
          <p:nvPr/>
        </p:nvSpPr>
        <p:spPr>
          <a:xfrm>
            <a:off x="457200" y="2521080"/>
            <a:ext cx="8229600" cy="82548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2395440"/>
                <a:tab algn="r" pos="4056120"/>
                <a:tab algn="r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17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  3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395440"/>
                <a:tab algn="r" pos="4056120"/>
                <a:tab algn="r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56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229600" cy="155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a company change the way that it accounts for its inventory to make it look more profit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16040"/>
            <a:ext cx="8229600" cy="80784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5" name="Group 5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206" name="Rectangle 6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7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8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6-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114800" cy="239220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$1,1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$1,0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$1,0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$95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229600" cy="15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all merchandising businesses use the same methods for accounting for inventor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merchandising businesses such as Best Buy have to disclose in their financial statements how they account for their inventor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primary objectives of control over inventory are safeguarding the inventory and properly reporting it in the financial stat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lection of an inventory costing method can have a significant impact on the financial stat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3616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cost of replacing inventory is lower than its recorded purchase cost, the lower of cost or market method (LCM) is used to value the invento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TPChart"/>
          <p:cNvGraphicFramePr/>
          <p:nvPr/>
        </p:nvGraphicFramePr>
        <p:xfrm>
          <a:off x="4508640" y="1986120"/>
          <a:ext cx="4406760" cy="48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986120"/>
                    <a:ext cx="4406760" cy="48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3508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s that have been purchased FOB destination but  are in transit should be excluded from the buyer’s physical count of goods for inventory cos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TPChart"/>
          <p:cNvGraphicFramePr/>
          <p:nvPr/>
        </p:nvGraphicFramePr>
        <p:xfrm>
          <a:off x="4508640" y="2057400"/>
          <a:ext cx="4209840" cy="473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2057400"/>
                    <a:ext cx="4209840" cy="473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64636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3T00:51:03Z</dcterms:created>
  <dc:creator> </dc:creator>
  <dc:description/>
  <dc:language>en-US</dc:language>
  <cp:lastModifiedBy>Leslie</cp:lastModifiedBy>
  <dcterms:modified xsi:type="dcterms:W3CDTF">2008-12-30T03:02:58Z</dcterms:modified>
  <cp:revision>37</cp:revision>
  <dc:subject/>
  <dc:title>Does the way a company such as Best Buy accounts for its inventory affect its net income in a given year?</dc:title>
</cp:coreProperties>
</file>